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EF9-01C5-4CB4-A54A-B58EE859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07C-6C35-43A9-8C39-AAB539A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B25-4C94-4E3E-A468-8C894A58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EEE-A4B1-4E84-8229-757FF61D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92CE-3CD2-4634-8244-13C82C44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8574-88EE-492D-89D1-3549C3DE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E218-8968-4D2D-9948-5983264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199D-5065-40B0-BEFD-3EBD998F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6C5B-BBBA-49FA-BC9C-790BBC34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33B0-7F5D-4556-B6C1-EBBE358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9AB-9FD5-46CF-A6FF-041F84C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340-06B8-416E-B2B3-00442535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FC3-DFC7-41B0-A44B-AF159DA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F37-E8B3-4CFF-8B11-765052D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E507-D46D-4421-9D7F-687A2777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9289-EFB4-45BE-985E-00DC7004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2927-9BAB-4AFA-B536-95232E2B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72C-2708-43F3-9963-C908BE0D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FA9-1F9B-4AD5-AB95-00B816D5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D7A-D6ED-43DE-AD0C-DB6ADBCE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9F5-9116-4522-AFF8-722FC11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ECD-AD6F-41C8-95A5-45AC926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498-3ACD-43E3-8595-9EEA36C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55B-8DAE-479A-9BCD-8A43691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7AD7-94D1-42AC-A431-D06752AD646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굴림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굴림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0DC-3F0F-4011-8B72-1983190E538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8137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7d47d"/>
                </a:solidFill>
                <a:latin typeface="HY견고딕"/>
                <a:ea typeface="HY견고딕"/>
              </a:rPr>
              <a:t>Principles of Test </a:t>
            </a:r>
            <a:r>
              <a:rPr b="1" lang="en-US" sz="8800" spc="-1" strike="noStrike">
                <a:solidFill>
                  <a:srgbClr val="f7d47d"/>
                </a:solidFill>
                <a:latin typeface="HY견고딕"/>
                <a:ea typeface="HY견고딕"/>
              </a:rPr>
              <a:t>Construction</a:t>
            </a:r>
            <a:endParaRPr b="0" lang="en-US" sz="88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0000" y="3428640"/>
            <a:ext cx="770400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893e"/>
                </a:solidFill>
                <a:latin typeface="HY나무B"/>
                <a:ea typeface="HY나무B"/>
              </a:rPr>
              <a:t>How does the 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893e"/>
                </a:solidFill>
                <a:latin typeface="HY나무B"/>
                <a:ea typeface="HY나무B"/>
              </a:rPr>
              <a:t>College Board assess 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c893e"/>
                </a:solidFill>
                <a:latin typeface="HY나무B"/>
                <a:ea typeface="HY나무B"/>
              </a:rPr>
              <a:t>you?</a:t>
            </a:r>
            <a:endParaRPr b="0" lang="en-US" sz="96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굴림"/>
              </a:rPr>
              <a:t>Wow, it’s so easy.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MS Reference Sans Serif"/>
              </a:rPr>
              <a:t>Psychological tests must be…</a:t>
            </a:r>
            <a:endParaRPr b="0" lang="en-US" sz="40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MS Reference Sans Serif"/>
              </a:rPr>
              <a:t>1) standardized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MS Reference Sans Serif"/>
              </a:rPr>
              <a:t>2) reliable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MS Reference Sans Serif"/>
              </a:rPr>
              <a:t>3) valid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굴림"/>
              </a:rPr>
              <a:t>Wow, it’s so easy.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MS Reference Sans Serif"/>
              </a:rPr>
              <a:t>If you use an inaccurate tape measure to measure people’s heights, your height report would have a high_____________ but a low___________.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굴림"/>
              </a:rPr>
              <a:t>Wow, it’s so easy.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MS Reference Sans Serif"/>
              </a:rPr>
              <a:t>If you use an inaccurate tape measure to measure people’s heights, your height report would have a high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MS Reference Sans Serif"/>
              </a:rPr>
              <a:t>reliability (consistency)</a:t>
            </a:r>
            <a:r>
              <a:rPr b="0" lang="en-US" sz="3200" spc="-1" strike="noStrike">
                <a:solidFill>
                  <a:srgbClr val="2f1311"/>
                </a:solidFill>
                <a:latin typeface="MS Reference Sans Serif"/>
              </a:rPr>
              <a:t> but a low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MS Reference Sans Serif"/>
              </a:rPr>
              <a:t>validity (accuracy).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1280" y="386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f1311"/>
                </a:solidFill>
                <a:latin typeface="MS Reference Sans Serif"/>
              </a:rPr>
              <a:t>What do we call this?</a:t>
            </a:r>
            <a:endParaRPr b="0" lang="en-US" sz="66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762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920" y="40053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MS Reference Sans Serif"/>
              </a:rPr>
              <a:t>A normal curve</a:t>
            </a:r>
            <a:endParaRPr b="0" lang="en-US" sz="4400" spc="-1" strike="noStrike">
              <a:solidFill>
                <a:srgbClr val="2f1311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MS Reference Sans Serif"/>
              </a:rPr>
              <a:t>(or normal distribution)</a:t>
            </a:r>
            <a:endParaRPr b="0" lang="en-US" sz="44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762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 Black"/>
              </a:rPr>
              <a:t>Before we finish,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MS Reference Sans Serif"/>
              </a:rPr>
              <a:t>Are general aptitude tests (SATs) as predictive as they are reliable?</a:t>
            </a: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MS Reference Sans Serif"/>
              </a:rPr>
              <a:t>The answer is </a:t>
            </a: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2f1311"/>
                </a:solidFill>
                <a:latin typeface="MS Reference Sans Serif"/>
              </a:rPr>
              <a:t>”</a:t>
            </a:r>
            <a:r>
              <a:rPr b="0" lang="en-US" sz="12400" spc="-1" strike="noStrike">
                <a:solidFill>
                  <a:srgbClr val="2f1311"/>
                </a:solidFill>
                <a:latin typeface="MS Reference Sans Serif"/>
              </a:rPr>
              <a:t>NO”.</a:t>
            </a:r>
            <a:endParaRPr b="0" lang="en-US" sz="124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HY견고딕"/>
                <a:ea typeface="HY견고딕"/>
              </a:rPr>
              <a:t>Okay, first of all…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892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813"/>
                </a:solidFill>
                <a:latin typeface="Arial Black"/>
                <a:ea typeface="DFKai-SB"/>
              </a:rPr>
              <a:t>Aptitude Tests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S Reference Sans Serif"/>
                <a:ea typeface="DFKai-SB"/>
              </a:rPr>
              <a:t>Tests designed to predict a person’s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MS Reference Sans Serif"/>
                <a:ea typeface="DFKai-SB"/>
              </a:rPr>
              <a:t>future performance</a:t>
            </a:r>
            <a:r>
              <a:rPr b="0" lang="en-US" sz="2800" spc="-1" strike="noStrike">
                <a:solidFill>
                  <a:srgbClr val="663300"/>
                </a:solidFill>
                <a:latin typeface="MS Reference Sans Serif"/>
                <a:ea typeface="DFKai-SB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S Reference Sans Serif"/>
                <a:ea typeface="DFKai-SB"/>
              </a:rPr>
              <a:t>(aptitude is the capacity to learn)</a:t>
            </a:r>
            <a:r>
              <a:rPr b="0" lang="en-US" sz="2000" spc="-1" strike="noStrike">
                <a:solidFill>
                  <a:srgbClr val="2f1311"/>
                </a:solidFill>
                <a:latin typeface="MS Reference Sans Serif"/>
                <a:ea typeface="DFKai-SB"/>
              </a:rPr>
              <a:t>	</a:t>
            </a: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813"/>
                </a:solidFill>
                <a:latin typeface="Arial Black"/>
                <a:ea typeface="DFKai-SB"/>
              </a:rPr>
              <a:t>Achievement Tests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S Reference Sans Serif"/>
                <a:ea typeface="DFKai-SB"/>
              </a:rPr>
              <a:t>Tests designed to assess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MS Reference Sans Serif"/>
                <a:ea typeface="DFKai-SB"/>
              </a:rPr>
              <a:t>what a person has learned</a:t>
            </a: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796000" y="3789360"/>
            <a:ext cx="3494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 Black"/>
              </a:rPr>
              <a:t>Believe it or not,</a:t>
            </a:r>
            <a:endParaRPr b="0" lang="en-US" sz="54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 Black"/>
              </a:rPr>
              <a:t>AP, SATII, SATI, ACT, TOEFL</a:t>
            </a:r>
            <a:r>
              <a:rPr b="0" lang="en-US" sz="3200" spc="-1" strike="noStrike">
                <a:solidFill>
                  <a:srgbClr val="2f1311"/>
                </a:solidFill>
                <a:latin typeface="Arial Black"/>
              </a:rPr>
              <a:t> are all…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79af7d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af7d"/>
                </a:solidFill>
                <a:latin typeface="Arial Black"/>
              </a:rPr>
              <a:t>Standardized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c893e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893e"/>
                </a:solidFill>
                <a:latin typeface="Arial Black"/>
              </a:rPr>
              <a:t>Reliable 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86ec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6ec9"/>
                </a:solidFill>
                <a:latin typeface="Arial Black"/>
              </a:rPr>
              <a:t>Valid  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5364000" cy="2962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2862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82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 Black"/>
              </a:rPr>
              <a:t>Standardization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3912"/>
                </a:solidFill>
                <a:latin typeface="MS Reference Sans Serif"/>
              </a:rPr>
              <a:t>Defining meaningful scores by </a:t>
            </a:r>
            <a:r>
              <a:rPr b="0" lang="en-US" sz="2000" spc="-1" strike="noStrike" u="sng">
                <a:solidFill>
                  <a:srgbClr val="643912"/>
                </a:solidFill>
                <a:uFillTx/>
                <a:latin typeface="MS Reference Sans Serif"/>
              </a:rPr>
              <a:t>comparison</a:t>
            </a:r>
            <a:r>
              <a:rPr b="0" lang="en-US" sz="2000" spc="-1" strike="noStrike">
                <a:solidFill>
                  <a:srgbClr val="643912"/>
                </a:solidFill>
                <a:latin typeface="MS Reference Sans Serif"/>
              </a:rPr>
              <a:t> with the performance of a pretested “standardization group”</a:t>
            </a:r>
            <a:endParaRPr b="0" lang="en-US" sz="20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9144000" cy="3703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558972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Black"/>
              </a:rPr>
              <a:t>Normal curve</a:t>
            </a:r>
            <a:endParaRPr b="0" lang="en-US" sz="28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3912"/>
                </a:solidFill>
                <a:latin typeface="MS Reference Sans Serif"/>
              </a:rPr>
              <a:t>The symmetrical bell-shaped curve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 Black"/>
              </a:rPr>
              <a:t>Reliability </a:t>
            </a:r>
            <a:endParaRPr b="0" lang="en-US" sz="54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MS Reference Sans Serif"/>
              </a:rPr>
              <a:t>Comparing your test scores to those of the standardizing group still won’t tell us much about you unless the test has reliability.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5b781"/>
                </a:solidFill>
                <a:latin typeface="MS Reference Sans Serif"/>
              </a:rPr>
              <a:t>Reliability 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b781"/>
                </a:solidFill>
                <a:latin typeface="MS Reference Sans Serif"/>
              </a:rPr>
              <a:t>The extent to which a test yields </a:t>
            </a:r>
            <a:r>
              <a:rPr b="0" lang="en-US" sz="2400" spc="-1" strike="noStrike" u="sng">
                <a:solidFill>
                  <a:srgbClr val="d5b781"/>
                </a:solidFill>
                <a:uFillTx/>
                <a:latin typeface="MS Reference Sans Serif"/>
              </a:rPr>
              <a:t>consistent results</a:t>
            </a:r>
            <a:r>
              <a:rPr b="0" lang="en-US" sz="2400" spc="-1" strike="noStrike">
                <a:solidFill>
                  <a:srgbClr val="d5b781"/>
                </a:solidFill>
                <a:latin typeface="MS Reference Sans Serif"/>
              </a:rPr>
              <a:t>, as assessed by the consistency of scores on two halves of the test, on alternative forms of the test, or on retesting.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0" y="4530600"/>
            <a:ext cx="3924360" cy="232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3924360" y="4508640"/>
            <a:ext cx="3889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 Black"/>
              </a:rPr>
              <a:t>Validity</a:t>
            </a:r>
            <a:endParaRPr b="0" lang="en-US" sz="54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MS Reference Sans Serif"/>
              </a:rPr>
              <a:t>High reliability does not ensure a test’s validity.</a:t>
            </a:r>
            <a:r>
              <a:rPr b="0" lang="en-US" sz="1800" spc="-1" strike="noStrike">
                <a:solidFill>
                  <a:srgbClr val="2f1311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1a3d"/>
                </a:solidFill>
                <a:latin typeface="Arial Black"/>
              </a:rPr>
              <a:t>Validity</a:t>
            </a:r>
            <a:r>
              <a:rPr b="0" lang="en-US" sz="3600" spc="-1" strike="noStrike">
                <a:solidFill>
                  <a:srgbClr val="2f131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a3d"/>
                </a:solidFill>
                <a:latin typeface="MS Reference Sans Serif"/>
              </a:rPr>
              <a:t>The extent to which a test measures or predicts </a:t>
            </a:r>
            <a:r>
              <a:rPr b="0" lang="en-US" sz="3200" spc="-1" strike="noStrike" u="sng">
                <a:solidFill>
                  <a:srgbClr val="961a3d"/>
                </a:solidFill>
                <a:uFillTx/>
                <a:latin typeface="MS Reference Sans Serif"/>
              </a:rPr>
              <a:t>what it is supposed to</a:t>
            </a:r>
            <a:endParaRPr b="0" lang="en-US" sz="32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381560" y="0"/>
            <a:ext cx="4762440" cy="2881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356000" y="4797360"/>
            <a:ext cx="4788000" cy="3040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356000" y="2349360"/>
            <a:ext cx="47880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392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Reference Sans Serif"/>
              </a:rPr>
              <a:t>Other tests are evaluated in terms of how well they agree with some </a:t>
            </a:r>
            <a:r>
              <a:rPr b="0" lang="en-US" sz="2400" spc="-1" strike="noStrike">
                <a:solidFill>
                  <a:srgbClr val="292929"/>
                </a:solidFill>
                <a:latin typeface="MS Reference Sans Serif"/>
              </a:rPr>
              <a:t>criterion</a:t>
            </a:r>
            <a:r>
              <a:rPr b="0" lang="en-US" sz="2400" spc="-1" strike="noStrike">
                <a:solidFill>
                  <a:srgbClr val="777777"/>
                </a:solidFill>
                <a:latin typeface="MS Reference Sans Serif"/>
              </a:rPr>
              <a:t>—an independent measure of what the test aims to assess. For some tests, the criterion is </a:t>
            </a:r>
            <a:r>
              <a:rPr b="0" lang="en-US" sz="2400" spc="-1" strike="noStrike">
                <a:solidFill>
                  <a:srgbClr val="292929"/>
                </a:solidFill>
                <a:latin typeface="MS Reference Sans Serif"/>
              </a:rPr>
              <a:t>future performance</a:t>
            </a:r>
            <a:r>
              <a:rPr b="0" lang="en-US" sz="2400" spc="-1" strike="noStrike">
                <a:solidFill>
                  <a:srgbClr val="777777"/>
                </a:solidFill>
                <a:latin typeface="MS Reference Sans Serif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MS Reference Sans Serif"/>
              </a:rPr>
              <a:t>For example, aptitude tests must have predictive validity, which means they predict future achievement.</a:t>
            </a:r>
            <a:endParaRPr b="0" lang="en-US" sz="2400" spc="-1" strike="noStrike">
              <a:solidFill>
                <a:srgbClr val="2f1311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427640" y="-243000"/>
            <a:ext cx="33732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 Black"/>
              </a:rPr>
              <a:t>Let’s reinforce!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360" y="2491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SzPct val="1028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f1311"/>
                </a:solidFill>
                <a:latin typeface="Arial Black"/>
              </a:rPr>
              <a:t>Quiz Time</a:t>
            </a:r>
            <a:endParaRPr b="0" lang="en-US" sz="96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굴림"/>
              </a:rPr>
              <a:t>Wow, it’s so easy.</a:t>
            </a:r>
            <a:endParaRPr b="0" lang="en-US" sz="4000" spc="-1" strike="noStrike">
              <a:solidFill>
                <a:srgbClr val="f7d47d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MS Reference Sans Serif"/>
              </a:rPr>
              <a:t>Psychological tests must be…</a:t>
            </a:r>
            <a:endParaRPr b="0" lang="en-US" sz="40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MS Reference Sans Serif"/>
              </a:rPr>
              <a:t>1) ___________________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MS Reference Sans Serif"/>
              </a:rPr>
              <a:t>2) ___________________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MS Reference Sans Serif"/>
              </a:rPr>
              <a:t>3) ___________________</a:t>
            </a:r>
            <a:endParaRPr b="0" lang="en-US" sz="3600" spc="-1" strike="noStrike">
              <a:solidFill>
                <a:srgbClr val="2f131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8:55:46Z</dcterms:created>
  <dc:creator>dabin</dc:creator>
  <dc:description/>
  <dc:language>en-US</dc:language>
  <cp:lastModifiedBy>dabin</cp:lastModifiedBy>
  <dcterms:modified xsi:type="dcterms:W3CDTF">2009-05-05T10:08:40Z</dcterms:modified>
  <cp:revision>2</cp:revision>
  <dc:subject/>
  <dc:title>Principles of Test Construction</dc:title>
</cp:coreProperties>
</file>